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80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5.wmf" ContentType="image/x-wmf"/>
  <Override PartName="/ppt/media/image23.png" ContentType="image/png"/>
  <Override PartName="/ppt/media/image21.png" ContentType="image/png"/>
  <Override PartName="/ppt/media/image20.png" ContentType="image/png"/>
  <Override PartName="/ppt/media/image18.jpeg" ContentType="image/jpeg"/>
  <Override PartName="/ppt/media/image24.png" ContentType="image/png"/>
  <Override PartName="/ppt/media/image19.gif" ContentType="image/gif"/>
  <Override PartName="/ppt/media/image16.png" ContentType="image/png"/>
  <Override PartName="/ppt/media/image15.png" ContentType="image/png"/>
  <Override PartName="/ppt/media/image14.jpeg" ContentType="image/jpeg"/>
  <Override PartName="/ppt/media/image4.jpeg" ContentType="image/jpeg"/>
  <Override PartName="/ppt/media/image25.jpeg" ContentType="image/jpeg"/>
  <Override PartName="/ppt/media/image2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</p:sldMasterIdLst>
  <p:sldIdLst>
    <p:sldId id="256" r:id="rId39"/>
    <p:sldId id="257" r:id="rId40"/>
    <p:sldId id="258" r:id="rId41"/>
    <p:sldId id="259" r:id="rId42"/>
    <p:sldId id="260" r:id="rId43"/>
    <p:sldId id="261" r:id="rId44"/>
    <p:sldId id="262" r:id="rId45"/>
    <p:sldId id="263" r:id="rId46"/>
    <p:sldId id="264" r:id="rId47"/>
    <p:sldId id="265" r:id="rId48"/>
    <p:sldId id="266" r:id="rId49"/>
    <p:sldId id="267" r:id="rId50"/>
    <p:sldId id="268" r:id="rId51"/>
    <p:sldId id="269" r:id="rId52"/>
    <p:sldId id="270" r:id="rId53"/>
    <p:sldId id="271" r:id="rId54"/>
    <p:sldId id="272" r:id="rId55"/>
    <p:sldId id="273" r:id="rId56"/>
    <p:sldId id="274" r:id="rId57"/>
    <p:sldId id="275" r:id="rId58"/>
    <p:sldId id="276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" Target="slides/slide1.xml"/><Relationship Id="rId40" Type="http://schemas.openxmlformats.org/officeDocument/2006/relationships/slide" Target="slides/slide2.xml"/><Relationship Id="rId41" Type="http://schemas.openxmlformats.org/officeDocument/2006/relationships/slide" Target="slides/slide3.xml"/><Relationship Id="rId42" Type="http://schemas.openxmlformats.org/officeDocument/2006/relationships/slide" Target="slides/slide4.xml"/><Relationship Id="rId43" Type="http://schemas.openxmlformats.org/officeDocument/2006/relationships/slide" Target="slides/slide5.xml"/><Relationship Id="rId44" Type="http://schemas.openxmlformats.org/officeDocument/2006/relationships/slide" Target="slides/slide6.xml"/><Relationship Id="rId45" Type="http://schemas.openxmlformats.org/officeDocument/2006/relationships/slide" Target="slides/slide7.xml"/><Relationship Id="rId46" Type="http://schemas.openxmlformats.org/officeDocument/2006/relationships/slide" Target="slides/slide8.xml"/><Relationship Id="rId47" Type="http://schemas.openxmlformats.org/officeDocument/2006/relationships/slide" Target="slides/slide9.xml"/><Relationship Id="rId48" Type="http://schemas.openxmlformats.org/officeDocument/2006/relationships/slide" Target="slides/slide10.xml"/><Relationship Id="rId49" Type="http://schemas.openxmlformats.org/officeDocument/2006/relationships/slide" Target="slides/slide11.xml"/><Relationship Id="rId50" Type="http://schemas.openxmlformats.org/officeDocument/2006/relationships/slide" Target="slides/slide12.xml"/><Relationship Id="rId51" Type="http://schemas.openxmlformats.org/officeDocument/2006/relationships/slide" Target="slides/slide13.xml"/><Relationship Id="rId52" Type="http://schemas.openxmlformats.org/officeDocument/2006/relationships/slide" Target="slides/slide14.xml"/><Relationship Id="rId53" Type="http://schemas.openxmlformats.org/officeDocument/2006/relationships/slide" Target="slides/slide15.xml"/><Relationship Id="rId54" Type="http://schemas.openxmlformats.org/officeDocument/2006/relationships/slide" Target="slides/slide16.xml"/><Relationship Id="rId55" Type="http://schemas.openxmlformats.org/officeDocument/2006/relationships/slide" Target="slides/slide17.xml"/><Relationship Id="rId56" Type="http://schemas.openxmlformats.org/officeDocument/2006/relationships/slide" Target="slides/slide18.xml"/><Relationship Id="rId57" Type="http://schemas.openxmlformats.org/officeDocument/2006/relationships/slide" Target="slides/slide19.xml"/><Relationship Id="rId58" Type="http://schemas.openxmlformats.org/officeDocument/2006/relationships/slide" Target="slides/slide20.xml"/><Relationship Id="rId59" Type="http://schemas.openxmlformats.org/officeDocument/2006/relationships/slide" Target="slides/slide21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21B0-9FC5-4501-8C54-CD2AD797D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5640-079A-4653-85C4-EE30ED19B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31BD9B-5E9B-413E-A65D-14EDF2285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80A1AE-FB4D-4936-8E8B-E01F73D01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446D24-11F6-4DF5-8531-546AB32D8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5282B5-BEBB-4523-B92F-C5C8C2F85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CDE83E-646A-42EC-8D97-B013F4F2C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59DCB1-BE1E-4F7C-BA6E-0BD63690E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B7DBE5-C740-4A4D-BA3D-D9627E6D2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AD8FCC-B104-4702-977B-3AD676E90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8ADA9D-3561-4DF4-A239-E830B3067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775F69-3D68-4E92-BFE7-8BB8F0486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B2A8-55BA-401F-ABD4-35EBEA97A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FFC551-61A1-4CA9-9228-A661137C5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078A88-56BF-421E-B530-86EF1F2D7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5B7618-B45F-469E-962C-11D3833D0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6B1532-35B8-4EAB-B922-87B8E4487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0945A0-A187-4275-8690-4E17ED253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39EABC-3D6B-48A7-BF00-9D4A1531B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F41CBA-5172-4F95-98D1-CFED186DC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6EC313-6D7D-449F-B10A-6B3A98FA9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E74734-CDC5-4B91-82E2-2FE01AC60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89FD74-F3DB-4DD2-8229-9E15415B9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1A4C-8517-41C6-8028-774AF33C5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669CED-B0DE-4F9D-BBC5-5235890B7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A8641D-81F6-4888-B2B8-EC2BE9959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414FBF-A6F0-4A10-9552-671C10752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12513C-4C39-4F4C-8937-15FA7BD6C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CC10ED-C6AB-41EB-AA63-7DFC62EB2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A2851E-03EC-45EF-822C-E53BFB8B7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D4E57D-F38F-4B83-80F1-9B1AC2B9D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7DEEAE-22A6-4735-B44A-EB4FB0EA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848DA8-ACEE-4F5A-96E1-630E03295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C14591-F767-473D-BA45-B55AECDBF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6AFA4-F95D-4774-9D89-A07DD9B3B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00E0E0-66FC-40FA-9AD4-D81C550A8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4AE8B3-BB8E-4417-AA04-E7FF2224A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9B151A-5D7C-4F28-A822-B68D76F60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280803-E38A-41D3-9562-D8DC32454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F95CC8-0774-4C88-BC72-E5534B83B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E2DB58-2EF6-4D96-B7C2-D31077B63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CAC42E-B8A7-45C5-98BD-3CD7A923F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A9879A-E851-4ADD-B172-AC323AC0C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77A75C-E168-4777-8BCF-FF7D29B5C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AD3E9A-B386-4651-AC32-4D9A77631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22688-B7FD-41ED-A640-5998CBFA0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BD75F9-0085-4216-B60C-CECE54BC3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F208E3-4407-4F64-8FF2-A4B79D736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CE7FE5-E734-4E42-9780-4D96EFB6E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F662D3-1ABA-4E0F-99D2-1BF6B1685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14564B-FB46-4683-9696-E1D9C696D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39804B-4E48-47AD-8287-011B1EB9F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7DC8EA-662A-4F3F-922F-967691446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92E87D-3AF1-485A-AF7B-22F467C1D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3AB12C-ED3A-4AC6-8B57-297B39C43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86A881-FB34-458F-BD4F-5DDD3263A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BC1CC-4649-4419-B936-949748EC0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7557D6-FCC8-4549-AE1A-EB8B2397E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0411E4-C7F4-444F-832B-1E60CCB9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554CB4-B59A-461F-A6E3-784B0D8CE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2269EB-63E5-4C32-A269-E8571E198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45F3A5-FEED-4DA5-B280-EF9E1AD49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3B10D2-FBA5-4997-AF29-B205A1425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121562-5590-4A7A-A16C-03CFBED15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1D2F97-DDF4-464D-8C1C-FD56CD5AC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D4AB8D-3395-4384-8418-FD03AEFEE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881B3D-2DBD-4E64-A6C9-EF8F78CE5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5683E-C0F1-4BED-A2FC-AA815AAED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0DB076-FC6F-4D4A-A5AB-556CDC58A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2D6EB4-9ED0-48BF-83C8-E9844D5B2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03C4C1-6967-4DCC-A86D-45C2F99B4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2950C4-C895-4161-AB76-2F186812D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4CCF6F-3B64-48E5-B555-B364C907E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E7E579-DDE2-4407-831D-8ECCB0BB1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8483A7-72EC-406E-8D14-352695816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B91256-8FE4-4E03-A0D8-AFF975871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725515-4AC2-4019-8556-B58D5AC4D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16FD74-4318-465E-8239-E831751AE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FA984-589B-4B86-9139-D974EA73D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5AA308-124C-450E-B25F-B2A4E7599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9CF980-1859-4011-924A-DBB451F00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509766-44A8-4FCC-A0E3-80B9631CB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C85423-9F45-4838-B079-A93F9B4BE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41AED1-98BC-4ED3-A17F-BDE5701E1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6FD507-A8CF-4C9C-AC86-7866BDDA6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092675-1378-4D75-B70D-37064F78F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0BF7EF-FB8C-4205-A83E-2D34A2C66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555FE8-9ABF-4E2A-B442-33A5ACF05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5E8900-A3F3-421A-9AC2-8254D1FEC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EA849-74A3-4684-9B3F-72A7B3BE3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841A49-DDEC-4CB9-A403-F934DAD4B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AFE1BD-FDAD-4EFA-97E2-737FF2A76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7EE786-9506-4A0B-A1D9-C75303E02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9B34C1-3245-4531-B89C-DABFC2385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C3D700-B3D6-4848-A28D-58ABE9332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5014DA-7998-43E5-8C05-FBC237EE3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A76C7F-5C8E-434D-B440-D5FC4EABE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9D1E54-0AFF-4B6C-AA77-C51A82AE4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09D86D-88E0-43DF-8C13-D28403BF3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4B4128-F419-49F5-8D93-A637341FB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90CBD-CB44-44CC-A214-0A13E5832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5A2CDB-E846-4D88-8EA2-2434516B8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492CC4-4112-4817-9FEB-A502760DA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2646D1-BB3A-4BD6-B023-296E86E06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344692-713C-4F6F-83C8-FF058283A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014F38-BC62-43E7-A81A-478263FBA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0CFCE2-42CD-426A-A3CA-F14275CF5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C2297B-05D2-4541-9F9E-CBA81C47E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26B1FE-8D6E-464F-8E02-E98E517F4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7C3674-E55A-4F1F-BC38-EC00491C4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5F0473-5E52-40EA-86D6-30F1B8408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069B-F3E0-45C8-B499-0CA69D899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F14D4-3ED7-4561-BA41-1DB53E863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B8129D-787B-4A9A-BF3C-F966201CB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97AE9C-59EA-4B25-919A-FFCC5A7A2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36DE93-0420-4234-A897-EABD2AFAA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9CFB3C-E517-4914-9CB3-13CFEB699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3E6152-8195-4C91-9498-46C84EFA9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133124-B0EA-4DD7-B0C9-4CCDA571C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62DFFD-D745-4EC4-A9BC-A25D70911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B16B22-9CE0-494E-B68E-1A1CD64D2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DE5931-AFD6-4D3E-856E-323E0D9FD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76FABB-3085-466B-B806-86EC26D0D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1E0FE-62C4-468F-8F0B-CC91A63C5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A8C372-43E1-4E24-A722-12B92F01E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392063-E421-4A67-85A9-0AEDE356A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6237E3-C970-4669-A964-D8909C3BA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A04EC4-43AB-4407-ACBD-1705E0BF7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F504CD-DA10-4D2C-AE07-E0B7236A0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7EE50A-1471-42BF-9F57-28AAD5AF2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6278BF-8B42-4170-9528-66571B406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D029FF-4ABF-42E3-808E-948507239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D7448A-3DB1-4D29-B3BE-270E3BC2A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76CA8D-AE36-4599-8DAB-1E4998F34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DCD9B-1531-410C-A6BD-0D1A2F99E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052CFE-9B38-4BA6-9266-795417833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F34E95-571D-4D6F-B37D-F20E3D744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3AF007-CD4B-4EBD-8F42-4F35109D5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57ED91-CA78-4050-94EB-48A4843B3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341BA5-E5C7-4EB4-9714-387526DEE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3FBE51-89EC-4D5A-850C-8915198B6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90DAFB-A8B5-4159-8365-BD3B024BE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D063CB-D4B5-48E9-89D6-AD15A3C5B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879101-DDFF-4BE3-9155-808C1EBC5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6B6087-34A4-498F-B3E6-DD5701577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E60C1-6F2F-49B6-BCBD-148A5A7AD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D7216B-E731-4D2C-B205-4FD3AA532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9AE4AA-E453-4766-847F-FF2160CA6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62EF6F-1B43-4D4A-9884-C6CA76712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3FF0E9-9A33-49CA-8487-8D94F1BC8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F12CF3-5709-4A73-857F-A1F5986C5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FA664A-8FCB-4345-AF49-39E437A9C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2F611F-B4FD-4BF3-A5D2-CD13DF5AC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FA2CE2-B5BE-4EB2-B913-78F886151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8264A4-27B0-4D25-8437-B277561F1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B485871-1299-40CC-9236-B96C3FAE3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DA6AE-0E5B-4468-9815-EFE6CECD2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CD3749-9000-408D-BC1F-09A705468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EA2D2F-8157-42E4-8AB9-63BFC3666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35DAB01-BE37-4810-B4C2-6FB96E544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C4FA577-7659-4BB5-A64D-8EFED76BD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68C3F5D-40CE-487C-B8D3-7DEF74D36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DB1299-79ED-412C-9572-D375170B3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0B00AA0-9D97-46A9-BEC2-5C47BBF98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55B973D-6936-44C3-BD1E-AFBF86DA3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3B73343-F295-4EB9-A1FB-60250A91E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7C87FA-8D55-4C80-879A-971CEA06B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AEC19-E821-4111-A0DB-6971A0849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222EB3-97AE-4F1D-8184-C56F59685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08277C4-2727-4A61-BBB6-D02E8D09C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4FF157-CD8C-485C-94AD-615DEDB15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473C809-A0A9-405A-96C5-B341A471B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FE2B1B0-D0D5-4574-9469-40D57E3EE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40E327D-0FCE-4B81-AE32-2B9D8E9FD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87134DF-506A-45DC-853D-6BC0EC0ED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59FA707-5DE6-4F2C-84F2-D104C69C7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09E303B-5194-4445-A6CC-2E3492CDC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E0596AC-C854-4300-8B60-BFC9BCFAD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B44F4-529A-4C8C-8D7A-9D9AEB030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897DA61-6AE7-47D8-B8D1-2B23D8420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E8EA406-532B-460C-9A9E-C2AD71023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4172058-DCAC-4E05-B68F-51E71E206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971CCF1-9F39-4EFC-81C0-BD43FD715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E2CB1E8-3DFA-4A66-A431-318CAF9EF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121B641-D9B1-4359-90E7-FFCD9D0D7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B39BD91-6DAC-4CAC-BA68-3A27F3C4A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249E29D-2337-4D43-B80D-F29163FEE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EA7F661-CA56-4248-86E1-03553AF56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560E659-837E-4B63-B80E-F354BCEC2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8CC62-E10D-4FC8-9AA5-28CDAD141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7EFCE45-34E2-4522-B9CE-70F914AF5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79C2519-0A64-4E38-87F8-3B87A343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8280CB6-46BA-4E36-9713-5F6E3443F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8C75249-84D9-4C49-B189-0646C3DAB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75E060B-8CCC-47DF-9BB7-86B03E342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A3B0BFA-32BB-4955-9F05-96F36AD92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DF7685F-E147-4989-8407-38002C3B6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ED1657E-7ADE-494A-B9EE-C1530E3A2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9988BFC-2BDB-4A4F-8F5A-4A4EB3AEC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E3475BB-99AA-46B7-A17B-85FEA91FC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DF689-1085-483F-9A7F-0054A6BA6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161BE0F-7EEF-4004-A5E3-9AB4F5FE5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00B2945-1C48-4232-BE59-0DAF93C5A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15D0409-444E-4C1C-9C1A-7A6D901C8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2F93F48-8DA7-4292-AF85-C20A2FAD3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30D6E83-1E8C-467A-97A4-675F72DF2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93F5E86-320D-45BC-8CA0-E4756E529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D1937E5-0E55-435C-8B5B-4A6FF830F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C77FED6-26EE-41A1-83E3-7850B03BA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BCA88BD-7998-4CD7-A281-8564D634E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A4E35B7-27C1-4423-BCD4-BDB0700D2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7558A-8C2E-4474-9D42-0E28398E1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0D86EF6-CD6B-4101-B772-4553D00C6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29EEF9F-3A87-4900-AB90-7E5112F22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D699DD3-6CD8-422E-BB0B-6C3EB26E5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E342708-B943-4231-8B1D-336DC836A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8838C21-2CE2-439A-A1BB-13EDC762E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FC66791-A830-4F80-8B8B-7BC135FAA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9F25041-65E1-471C-B692-9276C768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E528DAA-4789-4A41-8F25-764FAE3F1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823931A-31DB-41A1-B0DB-2445034C5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194ED25-456F-4508-98A6-7B031A351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019D-2BED-4563-9225-B7F8F795F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932B4-8EA3-4B9B-A891-716F24923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E7A6DDD-70A6-4377-9E48-DCF1CA488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1413690-43E3-4F78-AE5C-E9317E575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E284653-BAA7-4B30-810D-BD8DAA45A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1936556-519A-4A1A-8F52-8EF999EA6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7403F64-FBB9-4199-B7C7-DD3EB0C1F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F03C24F-7167-4CDE-BF41-74D2FCC77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00F10C0-F45D-4898-ABEE-98DD9457A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71D4C39-2B04-40E0-BCAA-F52373D68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6AF2727-529E-4632-AE9C-69D8F2D9A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E694A63-3625-456F-9F33-297AD239E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14515-061F-4CCB-92C8-A7FB8167E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EE8BEB2-E945-4860-B98B-806E71FB3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37BF37A-C3F3-48C6-A6A1-F9563A868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EC46180-E9B5-46BF-9526-77CE9A878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5F4FA52-55CB-4DF0-B651-99F5183D6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BB5D420-61A1-4074-B12E-0A29F776C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8228960-497A-4122-BB5D-68271EC1C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A581BC8-8DC9-4839-A191-AC5690DA6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04F6DAB-C866-48EA-B199-F9D5C60B7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D393DF3-E7E0-48BC-BCD6-8D7A69C83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E111C0D-F086-4549-B35F-EFD70D926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B13B5-757F-49BD-A624-074F47C75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F88C455-5B60-4315-9D32-48F6ECAE0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5A21D8B-7DEE-4DC7-8266-0CB046E3F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AB12B27-C564-4059-874E-B985C7804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441D638-33BE-4C38-A1AF-B1B0C37B1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B09F514-2FF6-4520-861B-1F0CF942D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BF9DDFD-7B6E-4FAA-908B-C31A90AD9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8DB8DBE-1D49-4960-8FD9-7ED9BBC7B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F3BBBC6-DB23-47A6-B09A-991DE0201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B44B3C8-344B-425E-A346-3D3465D09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1BA99EA-28A2-4350-992B-81911CC69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06B97-2DD4-4ACC-B6D7-9F89D786E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E577130-5AB9-40A2-8F79-5241392C1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4C2CAE0-6CB4-442E-806F-1DE3531BB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97A5C93-B080-45C5-B610-0E2DC5ABE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61EA33B-9A8A-4D81-A429-2AA6D8F00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3800DBF-6C42-4B55-B7E7-4A7BF6D1A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3B3FDEC-7C5A-43AC-9999-E49E3027F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C207528-FA92-4E03-9B2E-5B9DEF436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093CA6E-0511-413F-95D9-E11024883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CC66092-A487-4BAA-8118-CF281FA97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62478C8-6CE3-4541-948C-D56E6AB27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07276-E3D7-4F93-A0D8-B1C2C5BB2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E2FF08F-25EA-449C-ABD2-022A0A9A2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12823FD-1066-4241-A208-C542A742C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FB03864-F3D8-4373-886E-14FB84860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1D27FDB-6A93-41F6-B90B-13DE3BE55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B2883E7-6100-4327-87AF-572ED78AB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DA1A24E-0315-4E92-A444-2CA203440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1D34CB3-C60E-41E1-949B-5626A8FFB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B56B489-41A2-4004-8707-7B2C33EA1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DA96A1E-7CB6-4B16-BFBC-B45BE849D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C6F9966-9FD5-4178-A8C9-823B1CB25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B159F-1F36-4DDC-B30D-1F1AB78BA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19B5608-4AC1-4F2A-946D-6E77E667D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EC037BB-3EFF-409C-BA3A-BB0AB66A2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5B34F89-C346-4EAF-B2D6-CE47E4571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FE1ED75-7012-4A0E-BF9C-FCC435A92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99F062C-63FA-4766-B644-7C382381F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59986F2-446C-4859-80B8-D723DE745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3C61C6C-A863-4162-A3C4-C465D8A17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6B969C7-C21E-4E0F-B6C8-D41A74B2E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83CC42A-540B-48C5-9620-69C368DD3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0EBA7BA-3EA3-49BB-A0C1-D07317C0A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56BE6-1077-472F-852B-BE77BEBA9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3DEA877-8C26-42CF-9A10-DE0C0C077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64D8E5B-D466-4D52-B4E5-4CCF1B933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74F5382-ED4D-4293-8199-B60C5B9F2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87F540A-6661-4F1B-8B9B-17402875B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1366B21-A705-49A0-8A38-C0C50E477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07B5DD8-CA50-477C-BBD5-FAC87C03C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D02BB6E-B1D2-4123-ACF3-9803DB2DF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842E413-5F67-4196-8324-77B5FFF1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1177CA0-8C66-4AE1-A9AF-CF78DEC0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886D263-B5BB-4F93-A7E7-D14D91A14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15AD4-80ED-485E-82F1-3F1DC3A97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D3EF330-D2B1-4245-8B73-7526C0ED8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E63940C-079E-43BD-B086-060032C20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A127A35-01AE-4264-882B-FB8230E85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31231A4-102B-4B00-8FA2-A20967DE8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65F7EF5-D622-4E70-80FC-D9367934A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1F1E573-9DB4-48C4-90F4-531DE9CE2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A2B7690-3EA0-4C83-A504-EAA17CE6E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0335749-760B-400B-AA1D-DF8C3DBCF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4513619-4E25-4CDB-8A09-94C33970F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2786F8D-868A-44B7-B1B9-FB5297173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84BBA-5FA2-43FC-8494-F764B5401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14E95C2-FE1C-4CB6-A515-65ADDA61E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AC5FF3B-CD4F-4E09-82BB-375ED1E8B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A034E45-C20A-4786-BC56-32430F2BB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34BC16C-03ED-4198-945D-BD5B03079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96F7324-B411-493F-89F7-8A2B5834E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357BB2A-B75C-431D-85A9-97315CB6F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FBDFE79-6970-46DD-B6AA-196C94810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84F6C54-164B-4186-9CAE-9AB0D1155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3B4A238-F967-46E7-ACA9-460DB248D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4CD2AED-743F-454C-8555-8DCD2632B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68775-9E7F-4C0E-B56B-A2616DAA1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CB27741-ADD1-48F3-86F6-57C1EBF23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24F36DE-9641-4BA2-BBF1-0B77B8A3D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AC40F2B-15DE-4F1D-A17A-B2D3F80CB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0AFDDFE-F83C-423A-A04B-4CE74FA98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A8B7C03-5D3C-431C-BF6E-B06394CB4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9251A76-F913-425F-9CE2-3F54DA245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AD65E7F-BEB3-424D-80AA-1F64768BE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8088978-E247-4410-B347-0CC48827A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77E441F-94CA-41EA-BE46-EF15530EE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2D49A0B-D6C3-4FDC-9AAE-694D7CC69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D8B2-BE6C-437F-A802-8B9067BFA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11D48-ACDE-4A18-B791-76A0C5BC2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8709A9F-B50D-49D6-AD61-0AE7A16E8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600C186-6ABE-417F-A4F7-5A71FE230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C4F6DE2-82B4-4AFE-B59B-254CA8BD2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8B07F36-D573-4F9C-B667-D94A24777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E75785D-A435-407D-8C70-836E775C8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1559D6B-F205-4C49-95CC-9C037A5E1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2F81ABE-593A-4A95-B7B4-AF7F62E84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62E6D43-27FB-4ADF-9956-7C996E9D0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2AA7BAA-0A53-4A14-A673-11F43BCCE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7AD4EC2-A81C-4B0E-9E14-C302D07FF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88F65-0672-48FD-8429-66EF2CE73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8187299-6ED0-4208-BDA4-D1A2E12AD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B253B47-2AA7-49D2-82E7-3B30C49A6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06F7899-B91F-4942-B050-7FA51B466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1693776-BFDC-4FBD-B05E-C44381C88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5722AF0-25C4-4792-95C0-094D94107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88F39F7-B052-45E6-8A5E-432404830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F498C0A-25EE-4716-947E-8A0E8146A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B9901B9-FDEC-4E83-B0FA-F3358EF85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834B4B2-6C31-4F7D-8325-A368119D4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6CF1299-B7C8-4A89-AAF0-784DB7191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5FB0B-0304-4259-80D8-7B4D45B90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B72AD68-A671-4F62-9655-F0B6AD49A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35A1D5C-0122-4D53-B622-D20D5CE91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3DD123B-05DE-4FC7-8482-3F9C9E2E0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C12F107-F477-4834-83F2-9A718BECE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FE0BA4B-302C-4BCF-85CB-F006BE6AD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B8363C9-6A12-4CF0-B77D-4F09597D8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B19274E-4A12-4B91-BD0E-971D166E0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38C74C5-E9BF-4DCD-B761-86CAC3F21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3A9D757-7A49-4528-81EB-42D4BD3B6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3F8D4DA-9215-498D-B97B-4CEE313DC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CE0BD-930F-444D-8746-74A7EBAD1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22837BF-693F-4480-B772-12911A63B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06E6A6E-9163-412D-825A-A497F7D02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E7EF5C7-73AB-41A3-95C7-23C770488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8A458FC-66A6-4E07-955F-CF8E685E7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CE0C5BD-2E78-4B9C-AE61-49D44A611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2733FFF-AE0E-40F4-9910-EAC8CBD4E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9A41365-946E-4CD8-8482-57FAE13F6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E9F255C-669F-4F86-8C54-919D3291F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FC0F5F9-AD22-4963-9C37-D4CD18206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AFD6ADA-DD81-4C06-9DB7-6CECA5940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CA96B-6BFD-4B7D-9F44-BC19AD5CE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9E1B32E-65E9-4690-8D1E-AB46DCFA2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A8F5F1C-A678-4A45-87DA-94B3739E5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32BDE6F-4CA1-44C0-A58F-6715C7699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D0AFF2A-DCAC-49C4-9414-E15DC37C2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AC5AF57-E90A-4538-92F5-7617FA53B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FF602-9E87-4039-A20C-C6A437144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CDD3B-77A6-4401-BD5A-F0B4982D6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57366-9EC7-4873-9A21-7F0BD3AE3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23411-DC00-4D27-8122-BACB370A3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86BAA2-2F55-4A13-8F46-AB3AAE515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A9C9-FB9E-4A45-9DA4-64550D8E4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912C11-3A96-4347-913D-ABE29FF77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7903BD-4E51-4CFB-999C-34D1E32DD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4A2EFB-4D2D-496E-B319-D4FB5695A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05C0E7-E07B-4406-A945-7F04F65D3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FCDFB0-1E71-4683-81A1-C912EC059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8563D9-1A93-4A14-8C88-69DA8FC30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BDD0F0-4FB2-4E88-BF4F-D670C6313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297642-37FA-4A18-A56D-A7D60F74B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160F8B-6F4E-4F99-95BC-9F7F788ED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00929A-E5F8-444F-9FEB-D45CA0E96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CBEF-0A6C-429F-9CBB-81628BFC2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CC7FF8-5752-4B37-841E-309F93084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D255BB-3A1E-435B-9628-6402C3594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F1DEB2-6DED-4710-9276-03DBF3DE4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58CF1E-E798-409D-83A3-CAC182EF1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B4C473-1860-4FBA-A9BD-86489535F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42CBF7-A7C0-4C6B-BAFC-735C58D3C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F9495C-A28F-4676-AA44-68043FEE4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727910-DB39-4CC5-A95D-2447419F5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87F4FE-254B-4070-A2DF-FC8F25248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174925-A8CE-4386-99FE-63CEF6C2E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43B4-A011-4606-BB5F-271E7967E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CC637D-3997-4AEC-B585-F5D539429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8E012D-39FC-47E6-A776-73F8B78CC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749DA9-9DC8-4F9B-9CE5-08E5C1988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94FEE3-3EBC-4831-B0E9-6CF84D670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85AA08-8C66-4EC9-875C-7070125A8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DB64BE-89DD-4004-A7C4-5508BCFD9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F5EEB1-BB75-401F-B73C-604B896A8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927FC6-3429-4942-8DDC-39D3B9A02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63E0AA-9DD3-45C5-B21B-376DF7319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836F15-5AA6-4870-8CE4-737D94392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7112-CDA9-46E5-90F8-A2D87A6F4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67A4F5-224C-4939-AB5D-D81E1CC21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72BF9C-4B09-4A70-95F3-C0B0AD48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B09822-3E36-4AF6-9995-7E3C17E60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DD2B89-D8D2-4A99-A6F5-B35970964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AD8D7F-1230-44E7-B6FE-9154C1BBF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328D12-E5DA-4387-81CC-5D18EAAAC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DFD528-5B38-4AA8-8C4B-B0387F17B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EDDAB9-59CC-461E-AEDF-C14AAC39C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DFA9D2-0FBE-4642-AA32-4130D68EC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56E6B5-151E-4926-8312-9735987E1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7B8B-8D85-4913-BE15-4BCD5A5EB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D696A0-8CA1-4F83-B0D0-52C261EBA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81DE1A-4349-4334-A4AC-431E54532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D67A1E-0146-4401-89EA-663452ED6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E40EE1-EA48-4F60-9405-6594B491F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0D9A7E-71CC-4B1D-8649-865D4730B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97A691-CDDD-4351-AD95-16B68C6FF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67BA8C-C7C3-4072-85FB-D9EBD9994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C3BCB8-E248-411F-9117-505B91E0C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A927F3-00DD-4F77-A460-5036C3B84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8C1ACF-0CC2-4652-A57F-2A37D5EE1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A6FC6-21FF-4080-87F7-32B2B39F10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570CB-C3E0-4894-8C04-0222329054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63874-DF28-4424-BA6D-D8D17FBFAD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A577F-4810-4D02-B0DE-9ED0DFBD37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DDB7A-F4AE-4772-8B45-2FD3E95268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AF842-CCDB-4E87-A262-9AB68DDCD5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A6698-66EC-42E8-8FB6-E6F485ABB2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B4E25-097C-4D3B-A9D1-1F24DDF595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DE783-F2BE-4EAE-A5E9-7B1192BCBC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50D12-DEBC-44A7-9F86-8A63FA8CEE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239BE-ADD1-43A2-8E95-7D1672F562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1EF2A-24C2-44BB-81AB-C2CFEA3449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37567-CFBD-4631-9B6C-AE9D0FFF5C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BFF92-C169-4E94-9F87-39BC83A61D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A0E70-FDB6-4CA7-9F26-C776227A7F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910B9-76D9-45E8-8970-45B7F24B9E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9D808-5784-4637-9D6D-A69607A93F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63395-708D-4FEE-87B6-174624D8FE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CB484-F8D7-4BAD-BCE7-1E4A7B0950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9F9D1-327B-4BAB-B90E-4136714B99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26332-DC6E-4976-A9EA-7B447DEABD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A5B63-645A-4F98-B049-D91A358572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94D8F-A316-4E93-987D-93685079E6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8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8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9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FA5B2-A948-49F9-A34D-3DDA16594E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9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9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9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F2343-3C95-4F91-AFDD-682159B6C1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9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9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9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5F44D-300B-4BE9-B93F-401057C1C6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972A2-1D95-4FF6-8487-0495F5CBDF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dt" idx="10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ftr" idx="10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sldNum" idx="10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CBC6B-9DB0-4486-92EB-B90A41DF21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10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ftr" idx="10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 type="sldNum" idx="10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9C1B7-27DE-49E9-8F19-9A398623B4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 type="dt" idx="10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 type="ftr" idx="10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 type="sldNum" idx="10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6D502-AF6F-4C5E-B6BD-CCDE986D95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 type="dt" idx="10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 type="ftr" idx="1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5"/>
          <p:cNvSpPr>
            <a:spLocks noGrp="1"/>
          </p:cNvSpPr>
          <p:nvPr>
            <p:ph type="sldNum" idx="11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A39EE-9BD0-4571-8BA3-509790F9E1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962C8-A30E-4E8E-A053-8143A59ED4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28FC9-510E-4D04-A8E5-B66EA37D62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B9CC8-0119-419E-BBBA-14EB1171D5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EF85C-91DF-4D1D-AB34-B1C595FCFB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984DF-A93A-4BB2-A97A-FD67344706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B30C6-9D7E-4BE3-9993-C0746D4B11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hyperlink" Target="http://www.edu.pe.ca/southernkings/landforms.htm" TargetMode="External"/><Relationship Id="rId5" Type="http://schemas.openxmlformats.org/officeDocument/2006/relationships/hyperlink" Target="http://members.enchantedlearning.com/geography/landforms/glossary.shtml?p" TargetMode="External"/><Relationship Id="rId6" Type="http://schemas.openxmlformats.org/officeDocument/2006/relationships/hyperlink" Target="http://www.google.com/earth/index.html" TargetMode="External"/><Relationship Id="rId7" Type="http://schemas.openxmlformats.org/officeDocument/2006/relationships/slideLayout" Target="../slideLayouts/slideLayout21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0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4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42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4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4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6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8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7" name="Rectangle 1" descr=""/>
          <p:cNvPicPr/>
          <p:nvPr/>
        </p:nvPicPr>
        <p:blipFill>
          <a:blip r:embed="rId2"/>
          <a:stretch/>
        </p:blipFill>
        <p:spPr>
          <a:xfrm>
            <a:off x="1322280" y="792000"/>
            <a:ext cx="6389640" cy="2799000"/>
          </a:xfrm>
          <a:prstGeom prst="rect">
            <a:avLst/>
          </a:prstGeom>
          <a:ln w="0">
            <a:noFill/>
          </a:ln>
        </p:spPr>
      </p:pic>
      <p:pic>
        <p:nvPicPr>
          <p:cNvPr id="1518" name="Picture 2" descr="C:\Documents and Settings\sramsey\Local Settings\Temporary Internet Files\Content.IE5\FY2OJR7E\MC900438074[1].png"/>
          <p:cNvPicPr/>
          <p:nvPr/>
        </p:nvPicPr>
        <p:blipFill>
          <a:blip r:embed="rId3"/>
          <a:stretch/>
        </p:blipFill>
        <p:spPr>
          <a:xfrm>
            <a:off x="3200400" y="3352680"/>
            <a:ext cx="2743200" cy="2438640"/>
          </a:xfrm>
          <a:prstGeom prst="rect">
            <a:avLst/>
          </a:prstGeom>
          <a:ln w="0">
            <a:noFill/>
          </a:ln>
        </p:spPr>
      </p:pic>
      <p:sp>
        <p:nvSpPr>
          <p:cNvPr id="1519" name="Rectangle 3"/>
          <p:cNvSpPr/>
          <p:nvPr/>
        </p:nvSpPr>
        <p:spPr>
          <a:xfrm>
            <a:off x="6019920" y="3886200"/>
            <a:ext cx="251460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Click here for pictures of land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Rectangle 4"/>
          <p:cNvSpPr/>
          <p:nvPr/>
        </p:nvSpPr>
        <p:spPr>
          <a:xfrm>
            <a:off x="152280" y="3962520"/>
            <a:ext cx="289584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Click here for a glossary of land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Rectangle 5"/>
          <p:cNvSpPr/>
          <p:nvPr/>
        </p:nvSpPr>
        <p:spPr>
          <a:xfrm>
            <a:off x="3124080" y="5791320"/>
            <a:ext cx="281952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http://www.google.com/earth/index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group or chain of islands clustered together in a sea or ocea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9" name="Picture 3" descr="bd00028_"/>
          <p:cNvPicPr/>
          <p:nvPr/>
        </p:nvPicPr>
        <p:blipFill>
          <a:blip r:embed="rId1"/>
          <a:stretch/>
        </p:blipFill>
        <p:spPr>
          <a:xfrm>
            <a:off x="2819520" y="3429000"/>
            <a:ext cx="309852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Archipelag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1" name="Picture 7" descr="The World Archipelago, Persian Gulf"/>
          <p:cNvPicPr/>
          <p:nvPr/>
        </p:nvPicPr>
        <p:blipFill>
          <a:blip r:embed="rId1"/>
          <a:stretch/>
        </p:blipFill>
        <p:spPr>
          <a:xfrm>
            <a:off x="3733920" y="2362320"/>
            <a:ext cx="4647960" cy="4038480"/>
          </a:xfrm>
          <a:prstGeom prst="rect">
            <a:avLst/>
          </a:prstGeom>
          <a:ln w="0">
            <a:noFill/>
          </a:ln>
        </p:spPr>
      </p:pic>
      <p:pic>
        <p:nvPicPr>
          <p:cNvPr id="1542" name="Picture 9" descr="Click to show &quot;archipelago&quot; result 4"/>
          <p:cNvPicPr/>
          <p:nvPr/>
        </p:nvPicPr>
        <p:blipFill>
          <a:blip r:embed="rId2"/>
          <a:stretch/>
        </p:blipFill>
        <p:spPr>
          <a:xfrm>
            <a:off x="990720" y="2133720"/>
            <a:ext cx="2286000" cy="3733560"/>
          </a:xfrm>
          <a:prstGeom prst="rect">
            <a:avLst/>
          </a:prstGeom>
          <a:ln w="0">
            <a:noFill/>
          </a:ln>
        </p:spPr>
      </p:pic>
      <p:pic>
        <p:nvPicPr>
          <p:cNvPr id="1543" name="Picture 5" descr="http://members.enchantedlearning.com/agifs/archipelago.GIF"/>
          <p:cNvPicPr/>
          <p:nvPr/>
        </p:nvPicPr>
        <p:blipFill>
          <a:blip r:embed="rId3"/>
          <a:stretch/>
        </p:blipFill>
        <p:spPr>
          <a:xfrm>
            <a:off x="6858000" y="838080"/>
            <a:ext cx="120024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4" name="WordArt 5" descr=""/>
          <p:cNvPicPr/>
          <p:nvPr/>
        </p:nvPicPr>
        <p:blipFill>
          <a:blip r:embed="rId1"/>
          <a:stretch/>
        </p:blipFill>
        <p:spPr>
          <a:xfrm>
            <a:off x="835200" y="828720"/>
            <a:ext cx="7175160" cy="51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5" name="Picture 9" descr="http://floridagulfofmexico.com/images/gulfmap.jpg"/>
          <p:cNvPicPr/>
          <p:nvPr/>
        </p:nvPicPr>
        <p:blipFill>
          <a:blip r:embed="rId1"/>
          <a:stretch/>
        </p:blipFill>
        <p:spPr>
          <a:xfrm>
            <a:off x="1905120" y="1295280"/>
            <a:ext cx="7010280" cy="5029200"/>
          </a:xfrm>
          <a:prstGeom prst="rect">
            <a:avLst/>
          </a:prstGeom>
          <a:ln w="0">
            <a:noFill/>
          </a:ln>
        </p:spPr>
      </p:pic>
      <p:pic>
        <p:nvPicPr>
          <p:cNvPr id="1546" name="Rectangle 2" descr=""/>
          <p:cNvPicPr/>
          <p:nvPr/>
        </p:nvPicPr>
        <p:blipFill>
          <a:blip r:embed="rId2"/>
          <a:stretch/>
        </p:blipFill>
        <p:spPr>
          <a:xfrm>
            <a:off x="5389560" y="3139920"/>
            <a:ext cx="2936880" cy="1140120"/>
          </a:xfrm>
          <a:prstGeom prst="rect">
            <a:avLst/>
          </a:prstGeom>
          <a:ln w="0">
            <a:noFill/>
          </a:ln>
        </p:spPr>
      </p:pic>
      <p:pic>
        <p:nvPicPr>
          <p:cNvPr id="1547" name="Picture 5" descr="http://members.enchantedlearning.com/ggifs/Gulf.GIF"/>
          <p:cNvPicPr/>
          <p:nvPr/>
        </p:nvPicPr>
        <p:blipFill>
          <a:blip r:embed="rId3"/>
          <a:stretch/>
        </p:blipFill>
        <p:spPr>
          <a:xfrm>
            <a:off x="1143000" y="914400"/>
            <a:ext cx="120024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WordArt 3"/>
          <p:cNvSpPr txBox="1"/>
          <p:nvPr/>
        </p:nvSpPr>
        <p:spPr>
          <a:xfrm>
            <a:off x="1371600" y="1447920"/>
            <a:ext cx="59436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2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Lucida Calligraphy"/>
              </a:rPr>
              <a:t>What is… 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Lucida Calligraphy"/>
              <a:ea typeface="Lucida Calligraph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Lucida Calligraphy"/>
              <a:ea typeface="Lucida Calligraphy"/>
            </a:endParaRPr>
          </a:p>
        </p:txBody>
      </p:sp>
      <p:sp>
        <p:nvSpPr>
          <p:cNvPr id="1550" name="Rectangle 4"/>
          <p:cNvSpPr/>
          <p:nvPr/>
        </p:nvSpPr>
        <p:spPr>
          <a:xfrm>
            <a:off x="2286000" y="266688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Calligraphy"/>
              </a:rPr>
              <a:t>A body of land that is surrounded by water on three sid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1" name="Picture 9" descr="http://upload.wikimedia.org/wikipedia/commons/thumb/f/f6/Satellite_image_of_Italy_in_March_2003.jpg/250px-Satellite_image_of_Italy_in_March_2003.jpg"/>
          <p:cNvPicPr/>
          <p:nvPr/>
        </p:nvPicPr>
        <p:blipFill>
          <a:blip r:embed="rId1"/>
          <a:stretch/>
        </p:blipFill>
        <p:spPr>
          <a:xfrm>
            <a:off x="457200" y="1447920"/>
            <a:ext cx="4952880" cy="4047840"/>
          </a:xfrm>
          <a:prstGeom prst="rect">
            <a:avLst/>
          </a:prstGeom>
          <a:ln w="0">
            <a:noFill/>
          </a:ln>
        </p:spPr>
      </p:pic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WordArt 3"/>
          <p:cNvSpPr txBox="1"/>
          <p:nvPr/>
        </p:nvSpPr>
        <p:spPr>
          <a:xfrm>
            <a:off x="1219320" y="914400"/>
            <a:ext cx="6553080" cy="81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Goudy Stout"/>
              </a:rPr>
              <a:t>A Peninsul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Goudy Stout"/>
              <a:ea typeface="Goudy Stout"/>
            </a:endParaRPr>
          </a:p>
        </p:txBody>
      </p:sp>
      <p:pic>
        <p:nvPicPr>
          <p:cNvPr id="1554" name="Picture 6" descr="ag00037_"/>
          <p:cNvPicPr/>
          <p:nvPr/>
        </p:nvPicPr>
        <p:blipFill>
          <a:blip r:embed="rId2"/>
          <a:stretch/>
        </p:blipFill>
        <p:spPr>
          <a:xfrm>
            <a:off x="5257800" y="2743200"/>
            <a:ext cx="1303200" cy="1714680"/>
          </a:xfrm>
          <a:prstGeom prst="rect">
            <a:avLst/>
          </a:prstGeom>
          <a:ln w="0">
            <a:noFill/>
          </a:ln>
        </p:spPr>
      </p:pic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cc0099"/>
            </a:gs>
            <a:gs pos="100000">
              <a:srgbClr val="00cc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228240" y="1600200"/>
            <a:ext cx="8915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Script MT Bold"/>
              </a:rPr>
              <a:t>What is a narrow strip of land connecting two larger landmasses. It  has water on two sides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7" name="Picture 7" descr="http://upload.wikimedia.org/wikipedia/commons/thumb/8/81/Pm-map.png/450px-Pm-map.png"/>
          <p:cNvPicPr/>
          <p:nvPr/>
        </p:nvPicPr>
        <p:blipFill>
          <a:blip r:embed="rId1"/>
          <a:stretch/>
        </p:blipFill>
        <p:spPr>
          <a:xfrm>
            <a:off x="1447920" y="609480"/>
            <a:ext cx="6400800" cy="4705560"/>
          </a:xfrm>
          <a:prstGeom prst="rect">
            <a:avLst/>
          </a:prstGeom>
          <a:ln w="0">
            <a:noFill/>
          </a:ln>
        </p:spPr>
      </p:pic>
      <p:sp>
        <p:nvSpPr>
          <p:cNvPr id="155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nap IT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Text Box 1028"/>
          <p:cNvSpPr/>
          <p:nvPr/>
        </p:nvSpPr>
        <p:spPr>
          <a:xfrm>
            <a:off x="2743200" y="30492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howcard Gothic"/>
              </a:rPr>
              <a:t>An Isthm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Line 1029"/>
          <p:cNvSpPr/>
          <p:nvPr/>
        </p:nvSpPr>
        <p:spPr>
          <a:xfrm>
            <a:off x="4648320" y="91440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1" name="Picture 2" descr=""/>
          <p:cNvPicPr/>
          <p:nvPr/>
        </p:nvPicPr>
        <p:blipFill>
          <a:blip r:embed="rId2"/>
          <a:stretch/>
        </p:blipFill>
        <p:spPr>
          <a:xfrm>
            <a:off x="-12600" y="3986280"/>
            <a:ext cx="2901960" cy="38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3333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subTitle"/>
          </p:nvPr>
        </p:nvSpPr>
        <p:spPr>
          <a:xfrm>
            <a:off x="1295280" y="762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ff"/>
                </a:solidFill>
                <a:latin typeface="Showcard Gothic"/>
              </a:rPr>
              <a:t>What is a narrow body of water that connects two larger bodies of water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Rectangle 3"/>
          <p:cNvSpPr/>
          <p:nvPr/>
        </p:nvSpPr>
        <p:spPr>
          <a:xfrm>
            <a:off x="393840" y="114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4" name="Picture 6" descr="http://upload.wikimedia.org/wikipedia/commons/thumb/c/cf/Strait_of_gibraltar.jpg/300px-Strait_of_gibraltar.jpg"/>
          <p:cNvPicPr/>
          <p:nvPr/>
        </p:nvPicPr>
        <p:blipFill>
          <a:blip r:embed="rId1"/>
          <a:stretch/>
        </p:blipFill>
        <p:spPr>
          <a:xfrm>
            <a:off x="3200400" y="914400"/>
            <a:ext cx="5486400" cy="3876840"/>
          </a:xfrm>
          <a:prstGeom prst="rect">
            <a:avLst/>
          </a:prstGeom>
          <a:ln w="0">
            <a:noFill/>
          </a:ln>
        </p:spPr>
      </p:pic>
      <p:sp>
        <p:nvSpPr>
          <p:cNvPr id="1565" name="WordArt 3"/>
          <p:cNvSpPr txBox="1"/>
          <p:nvPr/>
        </p:nvSpPr>
        <p:spPr>
          <a:xfrm>
            <a:off x="304920" y="304920"/>
            <a:ext cx="289548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strai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66" name="Line 4"/>
          <p:cNvSpPr/>
          <p:nvPr/>
        </p:nvSpPr>
        <p:spPr>
          <a:xfrm>
            <a:off x="2057400" y="1981080"/>
            <a:ext cx="2971800" cy="175284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WordArt 4"/>
          <p:cNvSpPr txBox="1"/>
          <p:nvPr/>
        </p:nvSpPr>
        <p:spPr>
          <a:xfrm>
            <a:off x="990720" y="1219320"/>
            <a:ext cx="673884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Arial Black"/>
              </a:rPr>
              <a:t>What is part of a larg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Arial Black"/>
              </a:rPr>
              <a:t>body of water tha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Arial Black"/>
              </a:rPr>
              <a:t>extends into land and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Arial Black"/>
              </a:rPr>
              <a:t>and is smaller than a gulf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WordArt 2"/>
          <p:cNvSpPr txBox="1"/>
          <p:nvPr/>
        </p:nvSpPr>
        <p:spPr>
          <a:xfrm>
            <a:off x="2362320" y="609480"/>
            <a:ext cx="4876560" cy="127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25751" dir="18900000" blurRad="0" rotWithShape="0">
                    <a:srgbClr val="000099"/>
                  </a:outerShdw>
                </a:effectLst>
                <a:latin typeface="Harlow Solid Italic"/>
              </a:rPr>
              <a:t>What is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25751" dir="18900000" blurRad="0" rotWithShape="0">
                  <a:srgbClr val="000099"/>
                </a:outerShdw>
              </a:effectLst>
              <a:latin typeface="Harlow Solid Italic"/>
              <a:ea typeface="Harlow Solid Ital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25751" dir="18900000" blurRad="0" rotWithShape="0">
                    <a:srgbClr val="000099"/>
                  </a:outerShdw>
                </a:effectLst>
                <a:latin typeface="Harlow Solid Italic"/>
              </a:rPr>
              <a:t>a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25751" dir="18900000" blurRad="0" rotWithShape="0">
                  <a:srgbClr val="000099"/>
                </a:outerShdw>
              </a:effectLst>
              <a:latin typeface="Harlow Solid Italic"/>
              <a:ea typeface="Harlow Solid Italic"/>
            </a:endParaRPr>
          </a:p>
        </p:txBody>
      </p:sp>
      <p:sp>
        <p:nvSpPr>
          <p:cNvPr id="1568" name="WordArt 3"/>
          <p:cNvSpPr txBox="1"/>
          <p:nvPr/>
        </p:nvSpPr>
        <p:spPr>
          <a:xfrm>
            <a:off x="914400" y="2133720"/>
            <a:ext cx="769608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25751" dir="18900000" blurRad="0" rotWithShape="0">
                    <a:srgbClr val="000099"/>
                  </a:outerShdw>
                </a:effectLst>
                <a:latin typeface="Harlow Solid Italic"/>
              </a:rPr>
              <a:t>stream  or  river  that 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25751" dir="18900000" blurRad="0" rotWithShape="0">
                  <a:srgbClr val="000099"/>
                </a:outerShdw>
              </a:effectLst>
              <a:latin typeface="Harlow Solid Italic"/>
              <a:ea typeface="Harlow Solid Ital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effectLst>
                  <a:outerShdw dist="125751" dir="18900000" blurRad="0" rotWithShape="0">
                    <a:srgbClr val="000099"/>
                  </a:outerShdw>
                </a:effectLst>
                <a:latin typeface="Harlow Solid Italic"/>
              </a:rPr>
              <a:t>f lows into a larger river.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8"/>
                <a:srcRect/>
                <a:stretch/>
              </a:blipFill>
              <a:effectLst>
                <a:outerShdw dist="125751" dir="18900000" blurRad="0" rotWithShape="0">
                  <a:srgbClr val="000099"/>
                </a:outerShdw>
              </a:effectLst>
              <a:latin typeface="Harlow Solid Italic"/>
              <a:ea typeface="Harlow Solid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>
            <a:alpha val="3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9" name="Picture 7" descr="File:Glomma meets tributary Vorma.JPG"/>
          <p:cNvPicPr/>
          <p:nvPr/>
        </p:nvPicPr>
        <p:blipFill>
          <a:blip r:embed="rId1"/>
          <a:stretch/>
        </p:blipFill>
        <p:spPr>
          <a:xfrm>
            <a:off x="685800" y="838080"/>
            <a:ext cx="7620120" cy="5077080"/>
          </a:xfrm>
          <a:prstGeom prst="rect">
            <a:avLst/>
          </a:prstGeom>
          <a:ln w="0">
            <a:noFill/>
          </a:ln>
        </p:spPr>
      </p:pic>
      <p:sp>
        <p:nvSpPr>
          <p:cNvPr id="1570" name="Text Box 1027"/>
          <p:cNvSpPr/>
          <p:nvPr/>
        </p:nvSpPr>
        <p:spPr>
          <a:xfrm>
            <a:off x="1295280" y="2057400"/>
            <a:ext cx="586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Text Box 1028"/>
          <p:cNvSpPr/>
          <p:nvPr/>
        </p:nvSpPr>
        <p:spPr>
          <a:xfrm>
            <a:off x="1066680" y="1523880"/>
            <a:ext cx="50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cc99"/>
                </a:solidFill>
                <a:latin typeface="comic"/>
              </a:rPr>
              <a:t>A Tributar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Line 1029"/>
          <p:cNvSpPr/>
          <p:nvPr/>
        </p:nvSpPr>
        <p:spPr>
          <a:xfrm>
            <a:off x="2057400" y="2438280"/>
            <a:ext cx="1752480" cy="20574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3" name="Picture 5" descr="indian-head-ba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4" name="WordArt 6"/>
          <p:cNvSpPr txBox="1"/>
          <p:nvPr/>
        </p:nvSpPr>
        <p:spPr>
          <a:xfrm>
            <a:off x="2209680" y="2971800"/>
            <a:ext cx="933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Bay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large natural stream of water that runs through lan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6" name="Picture 3" descr="bd00028_"/>
          <p:cNvPicPr/>
          <p:nvPr/>
        </p:nvPicPr>
        <p:blipFill>
          <a:blip r:embed="rId1"/>
          <a:stretch/>
        </p:blipFill>
        <p:spPr>
          <a:xfrm>
            <a:off x="2819520" y="3429000"/>
            <a:ext cx="309852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iver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8" name="Picture 3" descr="river"/>
          <p:cNvPicPr/>
          <p:nvPr/>
        </p:nvPicPr>
        <p:blipFill>
          <a:blip r:embed="rId1"/>
          <a:stretch/>
        </p:blipFill>
        <p:spPr>
          <a:xfrm>
            <a:off x="1219320" y="1676520"/>
            <a:ext cx="6686280" cy="43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Ultra Bold"/>
              </a:rPr>
              <a:t>What is a large body of water that is completely surrounded by lan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0" name="Picture 2" descr="Maxwell%2520Bay%2520Lake%2520View%252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1" name="Text Box 3"/>
          <p:cNvSpPr/>
          <p:nvPr/>
        </p:nvSpPr>
        <p:spPr>
          <a:xfrm>
            <a:off x="2209680" y="1828800"/>
            <a:ext cx="350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Rockwell Extra Bold"/>
              </a:rPr>
              <a:t>LA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Line 4"/>
          <p:cNvSpPr/>
          <p:nvPr/>
        </p:nvSpPr>
        <p:spPr>
          <a:xfrm>
            <a:off x="3124080" y="2590920"/>
            <a:ext cx="152424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Text Box 1026"/>
          <p:cNvSpPr/>
          <p:nvPr/>
        </p:nvSpPr>
        <p:spPr>
          <a:xfrm>
            <a:off x="1508040" y="1184400"/>
            <a:ext cx="5730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Text Box 1027"/>
          <p:cNvSpPr/>
          <p:nvPr/>
        </p:nvSpPr>
        <p:spPr>
          <a:xfrm>
            <a:off x="1371600" y="289548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a body of land completely surrounded by wat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5" name="Picture 1026" descr="Fr-island"/>
          <p:cNvPicPr/>
          <p:nvPr/>
        </p:nvPicPr>
        <p:blipFill>
          <a:blip r:embed="rId1"/>
          <a:stretch/>
        </p:blipFill>
        <p:spPr>
          <a:xfrm>
            <a:off x="685800" y="609480"/>
            <a:ext cx="8001000" cy="5872320"/>
          </a:xfrm>
          <a:prstGeom prst="rect">
            <a:avLst/>
          </a:prstGeom>
          <a:ln w="0">
            <a:noFill/>
          </a:ln>
        </p:spPr>
      </p:pic>
      <p:sp>
        <p:nvSpPr>
          <p:cNvPr id="1536" name="Text Box 1027"/>
          <p:cNvSpPr/>
          <p:nvPr/>
        </p:nvSpPr>
        <p:spPr>
          <a:xfrm>
            <a:off x="4267080" y="129528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sl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Line 1028"/>
          <p:cNvSpPr/>
          <p:nvPr/>
        </p:nvSpPr>
        <p:spPr>
          <a:xfrm flipH="1">
            <a:off x="3504960" y="198108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7T13:50:16Z</dcterms:created>
  <dc:creator>STUDENT</dc:creator>
  <dc:description/>
  <dc:language>en-US</dc:language>
  <cp:lastModifiedBy>poweruser</cp:lastModifiedBy>
  <dcterms:modified xsi:type="dcterms:W3CDTF">2011-09-27T19:43:37Z</dcterms:modified>
  <cp:revision>34</cp:revision>
  <dc:subject/>
  <dc:title>Slide 1</dc:title>
</cp:coreProperties>
</file>